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camera.wav" ContentType="audio/x-wav"/>
  <Override PartName="/ppt/media/bomb.wav" ContentType="audio/x-wav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89E-0E36-4866-A954-0A893CA5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4D4-A669-4AEC-B9CC-3DE76D66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D1F-BE32-436E-8B9C-F77DD001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E89-F9B4-4551-8926-34744D7D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1DA5-D609-477A-BA13-50FC55C9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1699-A9E8-4C8B-8E57-98E2867F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46D9-B615-46F1-B241-8C51C78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37EC-0A1E-4752-9988-CADCF5A3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8015-B6A7-4F6C-859B-5BD2FB23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DBB3-1BC7-4113-8D92-B5E319F4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40BE-E40B-4FFA-A8F7-4F41CC43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EA1-57F0-4509-91EF-54114296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8DD8-D22B-4F6D-921F-350C1B47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0EF-C175-4087-B68C-3ACF1A5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837B-A3E5-447D-A598-CAE995DC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DBA5-07F8-41A5-8211-A40044DE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D24B-1439-416A-86CB-FB41990C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E3A-6761-4007-B050-42ECC528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CF0-0024-4239-BFF5-0A4311E2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80E-5704-4FB0-B761-2E1F42C9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84A-844D-4B40-B32A-892354C8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3F8-CA05-49AD-A927-A61BC6B0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B78-97B4-4A2A-9F5B-9D54DF2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BB2-631E-40FE-BBF1-1E32D002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A7C0-33CD-4204-BAF5-D622FC69FD7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6D99-5E4C-4D06-BD0E-682EBD22353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la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efinition :  To have a grumpy fac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Base word: glar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Inflection: ing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ynonym : Ma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ntonym: Happy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188928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torytell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Definition: Someone that tells storie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ynonym :Reader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ntonyms : audien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yllable :story- tel-ler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45040" y="1927080"/>
            <a:ext cx="1895760" cy="1781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89680" y="4167360"/>
            <a:ext cx="1806480" cy="1568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1508040" cy="2209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or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o take some thing with permission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ynonym check out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610480" y="6095880"/>
          <a:ext cx="98640" cy="1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0480" y="6095880"/>
                    <a:ext cx="9864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age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000">
    <p:cover dir="ld"/>
    <p:sndAc>
      <p:stSnd>
        <p:snd r:embed="rId1" name="bomb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21:19:00Z</dcterms:created>
  <dc:creator>Rooseveltlab</dc:creator>
  <dc:description/>
  <dc:language>en-US</dc:language>
  <cp:lastModifiedBy>Rooseveltlab</cp:lastModifiedBy>
  <dcterms:modified xsi:type="dcterms:W3CDTF">2008-10-30T21:59:22Z</dcterms:modified>
  <cp:revision>5</cp:revision>
  <dc:subject/>
  <dc:title>glaring</dc:title>
</cp:coreProperties>
</file>